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D1D-C622-426F-A763-4C78E3C8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D12C-1D37-4568-AD02-F4BBF4D9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054-CD68-4EA9-B9BE-6DFEA1ED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DB3-C495-4F6B-901A-EA57E1B0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F55C-7CB6-4548-BBE0-BFA9B1AB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66C3-B903-42C7-A276-F9E35F90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E96A-9B53-4EFB-A751-C683DC56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7EDB-55FD-4905-B82C-D0356752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D81C-5CD4-4928-AA84-AF11629A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CB7B-D4E6-4EEC-B542-C4B14FC3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9975-E315-42C4-ACDA-DACA957C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324-EBEB-489E-8888-297E6718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B855-4163-4B7A-AE9B-F69C741B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FB3B-4E8C-487E-8FD4-89439044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0849-816F-45F0-8CC2-B463C05C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4F2E-7F02-4264-8924-AA689F9C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F66A-0891-4EA1-8C6E-C2F216B4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0EB-45D8-4C65-AC48-87F073BB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CCF-3D93-482A-A668-FCE88792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6F0E-9FAE-45F3-B7D4-75BB26EF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8F5-3A24-490F-8139-CE6AE600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8640-9354-4552-B7CD-3FE580FA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5480-B90E-401E-9C62-70FA8C88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C57A-7325-4DB9-9C5E-29AEC3DE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23CC-94C6-4484-8400-49D4DDEBA5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16FF-52B5-44F9-AC59-FBADF92430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F:/Curs%20Bihor/CD%20Intel%20Teach/Curs_Intel_Teach/download/Unit_Portfolios/ProfesoriMaster/Chimie/Proprietatile%20generale%20ale%20metalelor/Evaluare/Lista%20verificare_prezentare_GN.doc" TargetMode="External"/><Relationship Id="rId2" Type="http://schemas.openxmlformats.org/officeDocument/2006/relationships/hyperlink" Target="file:///F:/Curs%20Bihor/CD%20Intel%20Teach/Curs_Intel_Teach/download/Unit_Portfolios/ProfesoriMaster/Chimie/Proprietatile%20generale%20ale%20metalelor/Evaluare/Lisata%20verificare_%20publicatie_GN.doc" TargetMode="External"/><Relationship Id="rId3" Type="http://schemas.openxmlformats.org/officeDocument/2006/relationships/hyperlink" Target="file:///F:/Curs%20Bihor/CD%20Intel%20Teach/Curs_Intel_Teach/download/Unit_Portfolios/ProfesoriMaster/Chimie/Proprietatile%20generale%20ale%20metalelor/Evaluare/Lisata%20verificare_%20publicatie_GN.doc" TargetMode="External"/><Relationship Id="rId4" Type="http://schemas.openxmlformats.org/officeDocument/2006/relationships/hyperlink" Target="file:///F:/Curs%20Bihor/CD%20Intel%20Teach/Curs_Intel_Teach/download/Unit_Portfolios/ProfesoriMaster/Chimie/Proprietatile%20generale%20ale%20metalelor/Evaluare/Lisata%20verificare_%20publicatie_GN.doc" TargetMode="External"/><Relationship Id="rId5" Type="http://schemas.openxmlformats.org/officeDocument/2006/relationships/hyperlink" Target="file:///F:/Curs%20Bihor/CD%20Intel%20Teach/Curs_Intel_Teach/download/Unit_Portfolios/ProfesoriMaster/Chimie/Proprietatile%20generale%20ale%20metalelor/Evaluare/Lisata%20verificare_%20publicatie_GN.doc" TargetMode="External"/><Relationship Id="rId6" Type="http://schemas.openxmlformats.org/officeDocument/2006/relationships/hyperlink" Target="file:///F:/Curs%20Bihor/CD%20Intel%20Teach/Curs_Intel_Teach/download/Unit_Portfolios/ProfesoriMaster/Chimie/Proprietatile%20generale%20ale%20metalelor/Evaluare/Lisata%20verificare_%20publicatie_GN.doc" TargetMode="External"/><Relationship Id="rId7" Type="http://schemas.openxmlformats.org/officeDocument/2006/relationships/hyperlink" Target="file:///F:/Curs%20Bihor/CD%20Intel%20Teach/Curs_Intel_Teach/download/Unit_Portfolios/ProfesoriMaster/Chimie/Proprietatile%20generale%20ale%20metalelor/Evaluare/Lisata%20verificare_%20publicatie_GN.doc" TargetMode="External"/><Relationship Id="rId8" Type="http://schemas.openxmlformats.org/officeDocument/2006/relationships/hyperlink" Target="file:///F:/Curs%20Bihor/CD%20Intel%20Teach/Curs_Intel_Teach/download/Unit_Portfolios/ProfesoriMaster/Chimie/Proprietatile%20generale%20ale%20metalelor/Evaluare/Lisata%20verificare_%20publicatie_GN.doc" TargetMode="External"/><Relationship Id="rId9" Type="http://schemas.openxmlformats.org/officeDocument/2006/relationships/hyperlink" Target="file:///F:/Curs%20Bihor/CD%20Intel%20Teach/Curs_Intel_Teach/download/Unit_Portfolios/ProfesoriMaster/Chimie/Proprietatile%20generale%20ale%20metalelor/Evaluare/Lisata%20verificare_%20publicatie_GN.doc" TargetMode="External"/><Relationship Id="rId10" Type="http://schemas.openxmlformats.org/officeDocument/2006/relationships/hyperlink" Target="file:///F:/Curs%20Bihor/CD%20Intel%20Teach/Curs_Intel_Teach/download/Unit_Portfolios/ProfesoriMaster/Chimie/Proprietatile%20generale%20ale%20metalelor/Evaluare/Lisata%20verificare_%20publicatie_GN.doc" TargetMode="External"/><Relationship Id="rId11" Type="http://schemas.openxmlformats.org/officeDocument/2006/relationships/hyperlink" Target="file:///F:/Curs%20Bihor/CD%20Intel%20Teach/Curs_Intel_Teach/download/Unit_Portfolios/ProfesoriMaster/Chimie/Proprietatile%20generale%20ale%20metalelor/Evaluare/Lista%20verificare_wiki_GN.doc" TargetMode="External"/><Relationship Id="rId12" Type="http://schemas.openxmlformats.org/officeDocument/2006/relationships/hyperlink" Target="file:///F:/Curs%20Bihor/CD%20Intel%20Teach/Curs_Intel_Teach/download/Unit_Portfolios/ProfesoriMaster/Chimie/Proprietatile%20generale%20ale%20metalelor/Evaluare/Jurnal%20de%20reflectie_GN.doc" TargetMode="External"/><Relationship Id="rId13" Type="http://schemas.openxmlformats.org/officeDocument/2006/relationships/hyperlink" Target="file:///F:/Curs%20Bihor/CD%20Intel%20Teach/Curs_Intel_Teach/download/Unit_Portfolios/ProfesoriMaster/Chimie/Proprietatile%20generale%20ale%20metalelor/Evaluare/Grila%20de%20scorare_invest&amp;prezentare_interevaluare_GN.doc" TargetMode="External"/><Relationship Id="rId14" Type="http://schemas.openxmlformats.org/officeDocument/2006/relationships/hyperlink" Target="file:///F:/Curs%20Bihor/CD%20Intel%20Teach/Curs_Intel_Teach/download/Unit_Portfolios/ProfesoriMaster/Chimie/Proprietatile%20generale%20ale%20metalelor/Evaluare/Grila%20de%20scorare_invest&amp;prezentare_interevaluare_GN.doc" TargetMode="External"/><Relationship Id="rId15" Type="http://schemas.openxmlformats.org/officeDocument/2006/relationships/hyperlink" Target="file:///F:/Curs%20Bihor/CD%20Intel%20Teach/Curs_Intel_Teach/download/Unit_Portfolios/ProfesoriMaster/Chimie/Proprietatile%20generale%20ale%20metalelor/Evaluare/Grila%20de%20scorare_invest&amp;prezentare_interevaluare_GN.doc" TargetMode="External"/><Relationship Id="rId16" Type="http://schemas.openxmlformats.org/officeDocument/2006/relationships/hyperlink" Target="file:///F:/Curs%20Bihor/CD%20Intel%20Teach/Curs_Intel_Teach/download/Unit_Portfolios/ProfesoriMaster/Chimie/Proprietatile%20generale%20ale%20metalelor/Evaluare/Descriptori_prezentare_GN.htm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F:/Curs%20Bihor/CD%20Intel%20Teach/Curs_Intel_Teach/download/Unit_Portfolios/ProfesoriMaster/Chimie/Proprietatile%20generale%20ale%20metalelor/Asistenta_unitate/Fisa%20de%20lucru_Stari%20de%20agregare_GN.doc" TargetMode="External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600" spc="-1" strike="noStrike">
                <a:solidFill>
                  <a:srgbClr val="ffffff"/>
                </a:solidFill>
                <a:latin typeface="Arial"/>
              </a:rPr>
              <a:t>SUNT IMPORTANTE METALELE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ofesor Lucica Abab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ffffff"/>
                </a:solidFill>
                <a:latin typeface="Arial"/>
              </a:rPr>
              <a:t>În ce măsură metalele sunt importante pentru oameni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80640" y="784800"/>
            <a:ext cx="7554960" cy="5145840"/>
            <a:chOff x="980640" y="784800"/>
            <a:chExt cx="7554960" cy="5145840"/>
          </a:xfrm>
        </p:grpSpPr>
        <p:sp>
          <p:nvSpPr>
            <p:cNvPr id="95" name="_s3081"/>
            <p:cNvSpPr/>
            <p:nvPr/>
          </p:nvSpPr>
          <p:spPr>
            <a:xfrm>
              <a:off x="2109240" y="1860120"/>
              <a:ext cx="4803120" cy="2968920"/>
            </a:xfrm>
            <a:custGeom>
              <a:avLst/>
              <a:gdLst>
                <a:gd name="textAreaLeft" fmla="*/ 0 w 4803120"/>
                <a:gd name="textAreaRight" fmla="*/ 4803480 w 4803120"/>
                <a:gd name="textAreaTop" fmla="*/ 0 h 2968920"/>
                <a:gd name="textAreaBottom" fmla="*/ 2969280 h 296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3082"/>
            <p:cNvSpPr/>
            <p:nvPr/>
          </p:nvSpPr>
          <p:spPr>
            <a:xfrm rot="7200000">
              <a:off x="4226400" y="867960"/>
              <a:ext cx="2968920" cy="4808880"/>
            </a:xfrm>
            <a:custGeom>
              <a:avLst/>
              <a:gdLst>
                <a:gd name="textAreaLeft" fmla="*/ 0 w 2968920"/>
                <a:gd name="textAreaRight" fmla="*/ 2969280 w 2968920"/>
                <a:gd name="textAreaTop" fmla="*/ 0 h 4808880"/>
                <a:gd name="textAreaBottom" fmla="*/ 4809240 h 480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3084"/>
            <p:cNvSpPr/>
            <p:nvPr/>
          </p:nvSpPr>
          <p:spPr>
            <a:xfrm rot="14400000">
              <a:off x="2319120" y="869040"/>
              <a:ext cx="2968920" cy="4806000"/>
            </a:xfrm>
            <a:custGeom>
              <a:avLst/>
              <a:gdLst>
                <a:gd name="textAreaLeft" fmla="*/ 0 w 2968920"/>
                <a:gd name="textAreaRight" fmla="*/ 2969280 w 2968920"/>
                <a:gd name="textAreaTop" fmla="*/ 0 h 4806000"/>
                <a:gd name="textAreaBottom" fmla="*/ 4806360 h 480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3079"/>
            <p:cNvSpPr/>
            <p:nvPr/>
          </p:nvSpPr>
          <p:spPr>
            <a:xfrm>
              <a:off x="6138000" y="2299680"/>
              <a:ext cx="192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3366ff"/>
                  </a:solidFill>
                  <a:latin typeface="Arial"/>
                </a:rPr>
                <a:t>Care sunt proprietăţile fizice ale metalel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3080"/>
            <p:cNvSpPr/>
            <p:nvPr/>
          </p:nvSpPr>
          <p:spPr>
            <a:xfrm>
              <a:off x="3859200" y="4739400"/>
              <a:ext cx="192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3366ff"/>
                  </a:solidFill>
                  <a:latin typeface="Arial"/>
                </a:rPr>
                <a:t>Care sunt metalele cu importanţă practică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3083"/>
            <p:cNvSpPr/>
            <p:nvPr/>
          </p:nvSpPr>
          <p:spPr>
            <a:xfrm>
              <a:off x="1580760" y="2299680"/>
              <a:ext cx="192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3366ff"/>
                  </a:solidFill>
                  <a:latin typeface="Arial"/>
                </a:rPr>
                <a:t>Cum reacţionează metalele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ffffff"/>
                </a:solidFill>
                <a:latin typeface="Arial"/>
              </a:rPr>
              <a:t>Proprietăţile generale ale metalel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 Rounded MT Bold"/>
              </a:rPr>
              <a:t>Veţi cre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O publicaţie/ site wiki pentru prima întrebare a unităţii: “Care sunt proprietăţile fizice ale metalelor?”, </a:t>
            </a:r>
            <a:r>
              <a:rPr b="0" lang="ro-RO" sz="1600" spc="-1" strike="noStrike">
                <a:solidFill>
                  <a:srgbClr val="9999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9999ff"/>
                </a:solidFill>
                <a:latin typeface="Arial"/>
              </a:rPr>
              <a:t>Termen: la sfârşitul lecţiei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O publicaţie/ site wiki pentru a doua întrebare a unităţii: “Cum reacţionează metale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9999ff"/>
                </a:solidFill>
                <a:latin typeface="Arial"/>
              </a:rPr>
              <a:t>     </a:t>
            </a:r>
            <a:r>
              <a:rPr b="0" lang="ro-RO" sz="1600" spc="-1" strike="noStrike">
                <a:solidFill>
                  <a:srgbClr val="9999ff"/>
                </a:solidFill>
                <a:latin typeface="Arial"/>
              </a:rPr>
              <a:t>	</a:t>
            </a:r>
            <a:r>
              <a:rPr b="0" lang="ro-RO" sz="1600" spc="-1" strike="noStrike">
                <a:solidFill>
                  <a:srgbClr val="9999ff"/>
                </a:solidFill>
                <a:latin typeface="Arial"/>
              </a:rPr>
              <a:t>Termen: la sfârşitul lecţiei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O publicaţie/ site wiki pentru a treia întrebare a unităţii: “care sunt metalele cu importanţă practică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9999ff"/>
                </a:solidFill>
                <a:latin typeface="Arial"/>
              </a:rPr>
              <a:t>	</a:t>
            </a:r>
            <a:r>
              <a:rPr b="0" lang="ro-RO" sz="1600" spc="-1" strike="noStrike">
                <a:solidFill>
                  <a:srgbClr val="9999ff"/>
                </a:solidFill>
                <a:latin typeface="Arial"/>
              </a:rPr>
              <a:t>       </a:t>
            </a:r>
            <a:r>
              <a:rPr b="0" lang="ro-RO" sz="1600" spc="-1" strike="noStrike">
                <a:solidFill>
                  <a:srgbClr val="9999ff"/>
                </a:solidFill>
                <a:latin typeface="Arial"/>
              </a:rPr>
              <a:t>Termen: la sfârşitul lecţiei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9999ff"/>
                </a:solidFill>
                <a:latin typeface="Arial"/>
              </a:rPr>
              <a:t>Fiecare grup va crea: o publicaţie şi un site, fiecare dintre produse va răspunde la una din cele trei întrebări ale unităţ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ffffff"/>
                </a:solidFill>
                <a:latin typeface="Arial"/>
              </a:rPr>
              <a:t>Proprietăţile generale ale metalel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 prezent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nuia din produse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proiectului, care va fi susţinută de fiecare gr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9999ff"/>
                </a:solidFill>
                <a:latin typeface="Arial"/>
              </a:rPr>
              <a:t>Termen: în cadrul lecţiei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9999ff"/>
                </a:solidFill>
                <a:latin typeface="Arial Rounded MT Bold"/>
              </a:rPr>
              <a:t>Folosiţi toate instrumentele de control furnizate pe parcursul derulării proiectului</a:t>
            </a:r>
            <a:r>
              <a:rPr b="0" lang="ro-RO" sz="1800" spc="-1" strike="noStrike">
                <a:solidFill>
                  <a:srgbClr val="9999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l</a:t>
            </a:r>
            <a:r>
              <a:rPr b="0" lang="ro-RO" sz="18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l</a:t>
            </a:r>
            <a:r>
              <a:rPr b="0" lang="en-US" sz="18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ist</a:t>
            </a:r>
            <a:r>
              <a:rPr b="0" lang="ro-RO" sz="18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ă</a:t>
            </a:r>
            <a:r>
              <a:rPr b="0" lang="en-US" sz="1800" spc="-1" strike="noStrike" u="sng">
                <a:solidFill>
                  <a:srgbClr val="996666"/>
                </a:solidFill>
                <a:uFillTx/>
                <a:latin typeface="Arial"/>
                <a:hlinkClick r:id="rId5"/>
              </a:rPr>
              <a:t> </a:t>
            </a:r>
            <a:r>
              <a:rPr b="0" lang="en-US" sz="1800" spc="-1" strike="noStrike" u="sng">
                <a:solidFill>
                  <a:srgbClr val="996666"/>
                </a:solidFill>
                <a:uFillTx/>
                <a:latin typeface="Arial"/>
                <a:hlinkClick r:id="rId6"/>
              </a:rPr>
              <a:t>verificare</a:t>
            </a:r>
            <a:r>
              <a:rPr b="0" lang="en-US" sz="1800" spc="-1" strike="noStrike" u="sng">
                <a:solidFill>
                  <a:srgbClr val="996666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1800" spc="-1" strike="noStrike" u="sng">
                <a:solidFill>
                  <a:srgbClr val="996666"/>
                </a:solidFill>
                <a:uFillTx/>
                <a:latin typeface="Arial"/>
                <a:hlinkClick r:id="rId8"/>
              </a:rPr>
              <a:t>publica</a:t>
            </a:r>
            <a:r>
              <a:rPr b="0" lang="ro-RO" sz="1800" spc="-1" strike="noStrike" u="sng">
                <a:solidFill>
                  <a:srgbClr val="996666"/>
                </a:solidFill>
                <a:uFillTx/>
                <a:latin typeface="Arial"/>
                <a:hlinkClick r:id="rId9"/>
              </a:rPr>
              <a:t>ţ</a:t>
            </a:r>
            <a:r>
              <a:rPr b="0" lang="en-US" sz="1800" spc="-1" strike="noStrike" u="sng">
                <a:solidFill>
                  <a:srgbClr val="996666"/>
                </a:solidFill>
                <a:uFillTx/>
                <a:latin typeface="Arial"/>
                <a:hlinkClick r:id="rId10"/>
              </a:rPr>
              <a:t>ie</a:t>
            </a:r>
            <a:r>
              <a:rPr b="0" lang="en-US" sz="1600" spc="-1" strike="noStrike">
                <a:solidFill>
                  <a:srgbClr val="9999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996666"/>
                </a:solidFill>
                <a:uFillTx/>
                <a:latin typeface="Arial"/>
                <a:hlinkClick r:id="rId11"/>
              </a:rPr>
              <a:t>listă verificare site</a:t>
            </a:r>
            <a:r>
              <a:rPr b="0" lang="ro-RO" sz="1800" spc="-1" strike="noStrike">
                <a:solidFill>
                  <a:srgbClr val="9999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996666"/>
                </a:solidFill>
                <a:uFillTx/>
                <a:latin typeface="Arial"/>
                <a:hlinkClick r:id="rId12"/>
              </a:rPr>
              <a:t>jurnal de reflecţie</a:t>
            </a:r>
            <a:r>
              <a:rPr b="0" lang="ro-RO" sz="1800" spc="-1" strike="noStrike">
                <a:solidFill>
                  <a:srgbClr val="9999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996666"/>
                </a:solidFill>
                <a:uFillTx/>
                <a:latin typeface="Arial"/>
                <a:hlinkClick r:id="rId13"/>
              </a:rPr>
              <a:t>grilă de </a:t>
            </a:r>
            <a:r>
              <a:rPr b="0" lang="ro-RO" sz="1800" spc="-1" strike="noStrike" u="sng">
                <a:solidFill>
                  <a:srgbClr val="996666"/>
                </a:solidFill>
                <a:uFillTx/>
                <a:latin typeface="Arial"/>
                <a:hlinkClick r:id="rId14"/>
              </a:rPr>
              <a:t>scorare</a:t>
            </a:r>
            <a:r>
              <a:rPr b="0" lang="ro-RO" sz="1800" spc="-1" strike="noStrike" u="sng">
                <a:solidFill>
                  <a:srgbClr val="996666"/>
                </a:solidFill>
                <a:uFillTx/>
                <a:latin typeface="Arial"/>
                <a:hlinkClick r:id="rId15"/>
              </a:rPr>
              <a:t> investigaţie şi prezentare</a:t>
            </a:r>
            <a:r>
              <a:rPr b="0" lang="ro-RO" sz="1800" spc="-1" strike="noStrike">
                <a:solidFill>
                  <a:srgbClr val="9999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f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ul fie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 ore v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eta jurnalul de refle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9999ff"/>
                </a:solidFill>
                <a:latin typeface="Arial"/>
              </a:rPr>
              <a:t>Timp de lucru: 5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9999ff"/>
                </a:solidFill>
                <a:latin typeface="Arial Rounded MT Bold"/>
              </a:rPr>
              <a:t>Folosiţi pentru alcătuirea prezentării fina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996666"/>
                </a:solidFill>
                <a:uFillTx/>
                <a:latin typeface="Arial"/>
                <a:hlinkClick r:id="rId16"/>
              </a:rPr>
              <a:t>descriptori evaluare _prezentare</a:t>
            </a:r>
            <a:r>
              <a:rPr b="0" lang="ro-RO" sz="1800" spc="-1" strike="noStrike">
                <a:solidFill>
                  <a:srgbClr val="9999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ffffff"/>
                </a:solidFill>
                <a:latin typeface="Arial"/>
              </a:rPr>
              <a:t>Lecţiile ¾: proprietăţile fizico mecanice ale metalel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28640"/>
            <a:ext cx="229716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recunoaştem metale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492000" y="1557000"/>
            <a:ext cx="5194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Obiectiv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Veţ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identific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proprietăţile fizico – mecanice ale metalelo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Veţ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prez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t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ezultatele investigaţiei  într-o publicaţie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/ wik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Sarcini de lucru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Folosiţi </a:t>
            </a:r>
            <a:r>
              <a:rPr b="0" lang="ro-RO" sz="17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fişa de lucru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pentru desfăşurarea activităţii voastre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ica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ţi  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grila de scorare_investigaţie şi prezentare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 pentru broşură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Lucraţi la publicaţie/ wiki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pleta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lista de verificare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grila de scorare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, pentru produsul propri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ffffff"/>
                </a:solidFill>
                <a:latin typeface="Arial"/>
              </a:rPr>
              <a:t>Lecţiile 5/6: proprietăţi chimice ale metalel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2243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m reacţionează metale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70200" y="1628280"/>
            <a:ext cx="576432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100" spc="-1" strike="noStrike">
                <a:solidFill>
                  <a:srgbClr val="000000"/>
                </a:solidFill>
                <a:latin typeface="Arial"/>
              </a:rPr>
              <a:t>Obiectiv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Veţi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investig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comportarea chimică a metalel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Veţi afla despre reactivitatea metalel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100" spc="-1" strike="noStrike">
                <a:solidFill>
                  <a:srgbClr val="000000"/>
                </a:solidFill>
                <a:latin typeface="Arial"/>
              </a:rPr>
              <a:t>Sarcini de lucru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Folosiţi fişa de lucru pentru desfăşurarea activităţii voastre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Verificaţi  veridicitatea concluziilor voastre pe baza </a:t>
            </a:r>
            <a:r>
              <a:rPr b="0" lang="ro-RO" sz="1800" spc="-1" strike="noStrike" u="sng">
                <a:solidFill>
                  <a:srgbClr val="3d8d93"/>
                </a:solidFill>
                <a:uFillTx/>
                <a:latin typeface="Arial"/>
              </a:rPr>
              <a:t>tabelului reactivităţi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ica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ţi  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grila de scorare_investigaţie şi prezentare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 pentru broşură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Lucraţi la publicaţie/ wiki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pleta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lista de verificare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grila de scorare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, pentru produsul propri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ffffff"/>
                </a:solidFill>
                <a:latin typeface="Arial"/>
              </a:rPr>
              <a:t>Lecţia 7: Metale cu importanţă practică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2243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are sunt metalele cu importanţă practic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87280" y="1557000"/>
            <a:ext cx="5699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100" spc="-1" strike="noStrike">
                <a:solidFill>
                  <a:srgbClr val="000000"/>
                </a:solidFill>
                <a:latin typeface="Arial"/>
              </a:rPr>
              <a:t>Obiectiv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Vă veţi  documenta pe tema descoperirii unor metale şi a importanţei lor pentru oamen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Veţ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prez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t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ezultatele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documentări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într-o publicaţie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/ wik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100" spc="-1" strike="noStrike">
                <a:solidFill>
                  <a:srgbClr val="000000"/>
                </a:solidFill>
                <a:latin typeface="Arial"/>
              </a:rPr>
              <a:t>Sarcini de lucru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Urmăriţi prezentarea site-ului creat de colegi: </a:t>
            </a:r>
            <a:r>
              <a:rPr b="0" lang="ro-RO" sz="1700" spc="-1" strike="noStrike" u="sng">
                <a:solidFill>
                  <a:srgbClr val="000000"/>
                </a:solidFill>
                <a:uFillTx/>
                <a:latin typeface="Arial"/>
              </a:rPr>
              <a:t>lucica32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.wik.is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ica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ţi 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grila de scorare_investigaţie şi prezentare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, pentru site-ul analiza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Lucraţi la publicaţie/ wiki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pleta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lista de verificare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grila de scorare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 pentru produsul vostr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ffffff"/>
                </a:solidFill>
                <a:latin typeface="Arial"/>
              </a:rPr>
              <a:t>Lecţia 8: Proprietăţile generale ale metalel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28640"/>
            <a:ext cx="229716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m reacţionează metale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03280" y="1557000"/>
            <a:ext cx="5483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100" spc="-1" strike="noStrike">
                <a:solidFill>
                  <a:srgbClr val="000000"/>
                </a:solidFill>
                <a:latin typeface="Arial"/>
              </a:rPr>
              <a:t>Obiectiv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Veţ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realiza o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z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t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are 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unuia din produsele elaborate în timpul  proiectului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Veţi susţine oral prezentarea voastr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100" spc="-1" strike="noStrike">
                <a:solidFill>
                  <a:srgbClr val="000000"/>
                </a:solidFill>
                <a:latin typeface="Arial"/>
              </a:rPr>
              <a:t>Sarcini de lucru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Lucraţi la prezentar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Folosiţi descrierea criteriilor din 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descriptori prezentare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atunci când elaboraţi prezentarea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Aplicaţi, individual, grila de scorare pentru toate prezentăril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08:11:28Z</dcterms:created>
  <dc:creator>janos jozsef</dc:creator>
  <dc:description/>
  <dc:language>en-US</dc:language>
  <cp:lastModifiedBy>emi1laptopf</cp:lastModifiedBy>
  <dcterms:modified xsi:type="dcterms:W3CDTF">2010-12-29T10:23:15Z</dcterms:modified>
  <cp:revision>8</cp:revision>
  <dc:subject/>
  <dc:title>Diapozitivul 1</dc:title>
</cp:coreProperties>
</file>